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3FBC-76C6-490B-972D-A5B994A53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DF8E-A982-466B-9784-62CEE4FD4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B50F-759C-4D23-823D-3BB24B8D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EA09-7E40-463B-AC65-1DECFF807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7C74-535C-4BA2-AADE-CC37F0E0A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0BFA-CFF5-4879-B924-7648D0766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275F-AF50-4CB1-BAD8-E5A0B5DB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F796-D576-4313-9520-8AC4EEEC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55C5-99D6-4ED9-9158-C499843F4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2F3C-FEB9-4A8B-BD39-533FC81A2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9D21-703F-415B-9E0C-1C42499DC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5559-FB9E-4D54-8E0E-2C07D4588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8626-3B36-4047-BA1D-995BFBEA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9F10C82-5EEE-47E4-8B07-70B818DDD5AD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8E92EF0-621E-4F95-87C9-CF9D45F351D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EAC6E98-3926-43E2-9A3D-ECB8E98A7A60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783040"/>
            <a:ext cx="87660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5: Spreadsheet and Worksheet Basic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age Setup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Ta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ange orientation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scale your data to fit all on one or more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 Ta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enter your data horizontally &amp;/or vertical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modify mar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2332782-1DC7-48F4-AA3F-8D486FDDEF4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age Setup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er/Footer ta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use a pre-formatted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Custom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w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e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an identify area to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have gridlines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B&amp;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hange page order of worksheet when 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B9AF55F-4F0F-4E54-831D-700343C3B5C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rint Dialog Box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4DF1A2B-3324-4355-B5EC-0A995A17673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2946240" y="1541520"/>
            <a:ext cx="3764160" cy="4968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"/>
          <p:cNvSpPr/>
          <p:nvPr/>
        </p:nvSpPr>
        <p:spPr>
          <a:xfrm>
            <a:off x="849240" y="1879560"/>
            <a:ext cx="154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nd Printing Worksheet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3280" y="1431720"/>
            <a:ext cx="8323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sheet Title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s the content of a worksheet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umn Heading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ears at the top of a column and describes the data in the colum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w Heading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appears at the left of a row and describes the data in the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ng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a group of two or more cells on a workshe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ed by Cell Reference : Cell Re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5:C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ll Refer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The cell name. Use Column Letter &amp; Row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B28D7BF-0C2C-41A5-8336-8A446B193FF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orksheet Guideli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scriptive workshee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n all caps in 12- to 14-point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bold; center across data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a blank row after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scriptive column 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bold;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worksheet tables horizontally and ver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4AF6D40-CEDE-4B5F-96E1-B4E214FBDA8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28800" y="291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172A6FC-A6AC-4087-BEAA-881CF15B988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782640" y="2933640"/>
            <a:ext cx="80470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17680" y="1510920"/>
            <a:ext cx="83613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of text in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ge &amp; Center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range of cells, Merge &amp; Center (bring together as 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ap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llows text to wraparound within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 Styl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formats your number to a whole Perc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 sure numbers are in decimal form for this to wor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6346C21-6412-49A2-88EE-CAA9A975507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Format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variety of styles in which to format the numbers in your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al Formatting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formatting to a cell set to certain conditions (If, Th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ither removes EVERYTHING from a cell or can remove just formatting, content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C011E0D-520A-4F9F-8684-6465A60D8A7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Number Format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places a $ and 2 decimal places into your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eft aligned.  Formatting number to Currency style  will show the $ directly next to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B2C1ABF-8407-4079-A897-14971B747D6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C9C2E99-1788-41D7-B4B1-86EBD3604605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990720" y="1917720"/>
            <a:ext cx="76960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596960" y="2801880"/>
            <a:ext cx="6110280" cy="3635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rinting Worksheet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int Preview to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margins or center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7E5B0A1-CF27-4883-B79B-ECF9A094764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35:53Z</dcterms:created>
  <dc:creator>Jean Bissell</dc:creator>
  <dc:description>Copyright 2006 South-Western/Thomson</dc:description>
  <dc:language>en-US</dc:language>
  <cp:lastModifiedBy>Lenessa Keehn</cp:lastModifiedBy>
  <dcterms:modified xsi:type="dcterms:W3CDTF">2011-03-23T17:34:28Z</dcterms:modified>
  <cp:revision>23</cp:revision>
  <dc:subject/>
  <dc:title>Slide 1</dc:title>
</cp:coreProperties>
</file>